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.png" ContentType="image/png"/>
  <Override PartName="/ppt/media/laugh-evil.wav" ContentType="audio/x-wav"/>
  <Override PartName="/ppt/media/laser.wav" ContentType="audio/x-wav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applause.wav" ContentType="audio/x-wav"/>
  <Override PartName="/ppt/media/image10.png" ContentType="image/png"/>
  <Override PartName="/ppt/media/image8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6132-AEF1-4F25-821B-57EEB2C2D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D50A-A3FE-45C5-8D54-F54ABBB01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as downloaded from: The Cyber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208.183.128.3/ce/ppt/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modified by Don Fisher      fisher_d@madera.k12.ca.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D3F-814F-455E-B589-43A71359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313-9FAA-49A3-8FFF-EDF562C6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485-7F60-44A8-B160-4D50B361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6F4-5011-4707-BBAB-0052401F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C80-E3BC-47E8-9888-9A42A681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FF0-29F7-4CBA-8DC6-E8EE46BF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D2E-3CE3-4328-81C1-6BBCE674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C16-32F1-4AB2-856F-8B870109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D56-2106-4B63-B8FB-213A3E93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25A-C111-4A3E-A383-770ECF58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A5C-762A-4452-A2E1-CE0AF564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985-5799-42B3-B74C-C3353371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8021-0100-4121-8F43-4EBD3F83B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laugh-evi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181960" y="685800"/>
            <a:ext cx="6758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    </a:t>
            </a: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Let’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Put </a:t>
            </a:r>
            <a:r>
              <a:rPr b="1" lang="en-US" sz="8000" spc="-1" strike="noStrike">
                <a:solidFill>
                  <a:srgbClr val="cc3300"/>
                </a:solidFill>
                <a:latin typeface="Chiller"/>
              </a:rPr>
              <a:t>an end</a:t>
            </a: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 t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  </a:t>
            </a: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sentences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alien1"/>
          <p:cNvPicPr/>
          <p:nvPr/>
        </p:nvPicPr>
        <p:blipFill>
          <a:blip r:embed="rId1"/>
          <a:stretch/>
        </p:blipFill>
        <p:spPr>
          <a:xfrm>
            <a:off x="4952880" y="499428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alien1"/>
          <p:cNvPicPr/>
          <p:nvPr/>
        </p:nvPicPr>
        <p:blipFill>
          <a:blip r:embed="rId2"/>
          <a:stretch/>
        </p:blipFill>
        <p:spPr>
          <a:xfrm>
            <a:off x="1143000" y="457200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alien1"/>
          <p:cNvPicPr/>
          <p:nvPr/>
        </p:nvPicPr>
        <p:blipFill>
          <a:blip r:embed="rId3"/>
          <a:stretch/>
        </p:blipFill>
        <p:spPr>
          <a:xfrm>
            <a:off x="304920" y="380880"/>
            <a:ext cx="1885680" cy="186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alien1"/>
          <p:cNvPicPr/>
          <p:nvPr/>
        </p:nvPicPr>
        <p:blipFill>
          <a:blip r:embed="rId4"/>
          <a:stretch/>
        </p:blipFill>
        <p:spPr>
          <a:xfrm>
            <a:off x="7257960" y="396252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alien1"/>
          <p:cNvPicPr/>
          <p:nvPr/>
        </p:nvPicPr>
        <p:blipFill>
          <a:blip r:embed="rId5"/>
          <a:stretch/>
        </p:blipFill>
        <p:spPr>
          <a:xfrm>
            <a:off x="6553080" y="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alien1"/>
          <p:cNvPicPr/>
          <p:nvPr/>
        </p:nvPicPr>
        <p:blipFill>
          <a:blip r:embed="rId6"/>
          <a:stretch/>
        </p:blipFill>
        <p:spPr>
          <a:xfrm>
            <a:off x="533520" y="2362320"/>
            <a:ext cx="1885680" cy="1863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3048480" y="51814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anguage 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25680" y="2384280"/>
            <a:ext cx="75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e phone is ringing</a:t>
            </a:r>
            <a:r>
              <a:rPr b="1" lang="en-US" sz="96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1143000" y="914400"/>
            <a:ext cx="1066680" cy="1143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066680" y="44956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is sentence is a statement, so it gets a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period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7640" y="838080"/>
            <a:ext cx="78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at car is going to cra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exclamation-dance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question-dance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116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9000" y="4343400"/>
            <a:ext cx="30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809880" y="4384800"/>
            <a:ext cx="221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707160" y="414648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alien1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light-ing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971800" y="4038480"/>
            <a:ext cx="214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46400" y="3208320"/>
            <a:ext cx="78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at car is going to cra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exclamation-dance"/>
          <p:cNvPicPr/>
          <p:nvPr/>
        </p:nvPicPr>
        <p:blipFill>
          <a:blip r:embed="rId1"/>
          <a:stretch/>
        </p:blipFill>
        <p:spPr>
          <a:xfrm>
            <a:off x="914400" y="914400"/>
            <a:ext cx="2243160" cy="1676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1143000" y="48006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is sentence shows excitement, so it gets an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xclamation mark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8305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80040" y="609480"/>
            <a:ext cx="633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at tree is going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all on the 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exclamation-dance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question-dance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134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83040" y="4343400"/>
            <a:ext cx="30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886200" y="438480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631200" y="43434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ien1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light-ing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124080" y="4114800"/>
            <a:ext cx="192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52440" y="2743200"/>
            <a:ext cx="837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at tree is going to f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on the ho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exclamation-dance"/>
          <p:cNvPicPr/>
          <p:nvPr/>
        </p:nvPicPr>
        <p:blipFill>
          <a:blip r:embed="rId1"/>
          <a:stretch/>
        </p:blipFill>
        <p:spPr>
          <a:xfrm>
            <a:off x="914400" y="914400"/>
            <a:ext cx="2243160" cy="1676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838080" y="51055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is sentence is a exclamation, so it gets an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xclamation mark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781680" y="35812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100160" y="762120"/>
            <a:ext cx="709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t those papers aw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exclamation-dance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question-dance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152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06720" y="4343400"/>
            <a:ext cx="30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733920" y="438480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554880" y="426708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lien1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light-ing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048120" y="4267080"/>
            <a:ext cx="192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29000" y="3200400"/>
            <a:ext cx="192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04920" y="1981080"/>
            <a:ext cx="192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048120" y="5029200"/>
            <a:ext cx="192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79080" y="3573360"/>
            <a:ext cx="81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ut those papers away</a:t>
            </a: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1371600" y="1371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143000" y="495288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is sentence is a command, so it gets a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period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09480" y="3808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What is an end ma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04920" y="1143000"/>
            <a:ext cx="883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 end mark is also known as punctuation, and comes at the end of a sentence.  It lets you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n to sto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35360" y="3962520"/>
            <a:ext cx="822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What are the different kind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end mark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alien1"/>
          <p:cNvPicPr/>
          <p:nvPr/>
        </p:nvPicPr>
        <p:blipFill>
          <a:blip r:embed="rId1"/>
          <a:stretch/>
        </p:blipFill>
        <p:spPr>
          <a:xfrm>
            <a:off x="6400800" y="4648320"/>
            <a:ext cx="18860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memb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n end mark comes at the END of a sentence, and lets you know wh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3" descr="stop"/>
          <p:cNvPicPr/>
          <p:nvPr/>
        </p:nvPicPr>
        <p:blipFill>
          <a:blip r:embed="rId1"/>
          <a:stretch/>
        </p:blipFill>
        <p:spPr>
          <a:xfrm>
            <a:off x="2209680" y="2895480"/>
            <a:ext cx="2133720" cy="1792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304920" y="464184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re are a few more members of the punctuation famil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5943600" y="5815080"/>
            <a:ext cx="3200400" cy="1042920"/>
          </a:xfrm>
          <a:custGeom>
            <a:avLst/>
            <a:gdLst>
              <a:gd name="textAreaLeft" fmla="*/ 67320 w 3200400"/>
              <a:gd name="textAreaRight" fmla="*/ 3133080 w 32004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6268" h="21600">
                <a:moveTo>
                  <a:pt x="0" y="0"/>
                </a:moveTo>
                <a:lnTo>
                  <a:pt x="66268" y="0"/>
                </a:lnTo>
                <a:lnTo>
                  <a:pt x="66268" y="21600"/>
                </a:lnTo>
                <a:lnTo>
                  <a:pt x="0" y="21600"/>
                </a:lnTo>
                <a:close/>
              </a:path>
              <a:path fill="lightenLess" w="66268" h="21600">
                <a:moveTo>
                  <a:pt x="0" y="0"/>
                </a:moveTo>
                <a:lnTo>
                  <a:pt x="66268" y="0"/>
                </a:lnTo>
                <a:lnTo>
                  <a:pt x="64868" y="1400"/>
                </a:lnTo>
                <a:lnTo>
                  <a:pt x="1400" y="1400"/>
                </a:lnTo>
                <a:close/>
              </a:path>
              <a:path fill="darken" w="66268" h="21600">
                <a:moveTo>
                  <a:pt x="66268" y="0"/>
                </a:moveTo>
                <a:lnTo>
                  <a:pt x="66268" y="21600"/>
                </a:lnTo>
                <a:lnTo>
                  <a:pt x="64868" y="20200"/>
                </a:lnTo>
                <a:lnTo>
                  <a:pt x="64868" y="1400"/>
                </a:lnTo>
                <a:close/>
              </a:path>
              <a:path fill="darkenLess" w="66268" h="21600">
                <a:moveTo>
                  <a:pt x="66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868" y="20200"/>
                </a:lnTo>
                <a:close/>
              </a:path>
              <a:path fill="lighten" w="66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meet th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2133720" y="4648320"/>
            <a:ext cx="2286000" cy="0"/>
          </a:xfrm>
          <a:prstGeom prst="line">
            <a:avLst/>
          </a:prstGeom>
          <a:ln w="57240">
            <a:solidFill>
              <a:srgbClr val="003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4343400" y="2895480"/>
            <a:ext cx="0" cy="1752840"/>
          </a:xfrm>
          <a:prstGeom prst="line">
            <a:avLst/>
          </a:prstGeom>
          <a:ln w="76320">
            <a:solidFill>
              <a:srgbClr val="003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28600" y="3886200"/>
            <a:ext cx="8229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 will need the following items from the store</a:t>
            </a: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  bananas, grapes, watermelon, and lem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3"/>
          <p:cNvSpPr/>
          <p:nvPr/>
        </p:nvSpPr>
        <p:spPr>
          <a:xfrm>
            <a:off x="8001000" y="53352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8001000" y="1600200"/>
            <a:ext cx="914400" cy="914400"/>
          </a:xfrm>
          <a:prstGeom prst="ellipse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6" descr="foodline"/>
          <p:cNvPicPr/>
          <p:nvPr/>
        </p:nvPicPr>
        <p:blipFill>
          <a:blip r:embed="rId1"/>
          <a:stretch/>
        </p:blipFill>
        <p:spPr>
          <a:xfrm>
            <a:off x="5410080" y="5791320"/>
            <a:ext cx="3733920" cy="1066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304920" y="22860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 colon is made with two perio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28600" y="198108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is used for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4952880" y="1523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11</a:t>
            </a: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35 p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228600" y="2971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comes before a li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820600" y="0"/>
            <a:ext cx="324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com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5927760" y="68112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0" y="1676520"/>
            <a:ext cx="883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e comma is used to separate a li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y favorite animals are giraffes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gs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ts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bir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t is also used between the date and the ye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as December 24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0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cats"/>
          <p:cNvPicPr/>
          <p:nvPr/>
        </p:nvPicPr>
        <p:blipFill>
          <a:blip r:embed="rId1"/>
          <a:stretch/>
        </p:blipFill>
        <p:spPr>
          <a:xfrm>
            <a:off x="0" y="0"/>
            <a:ext cx="2438280" cy="1652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Giraffe4"/>
          <p:cNvPicPr/>
          <p:nvPr/>
        </p:nvPicPr>
        <p:blipFill>
          <a:blip r:embed="rId2"/>
          <a:stretch/>
        </p:blipFill>
        <p:spPr>
          <a:xfrm>
            <a:off x="7989840" y="4267080"/>
            <a:ext cx="1154160" cy="2590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1"/>
          <p:cNvSpPr/>
          <p:nvPr/>
        </p:nvSpPr>
        <p:spPr>
          <a:xfrm>
            <a:off x="6705720" y="-228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99"/>
                </a:solidFill>
                <a:latin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228600" y="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75400" y="468360"/>
            <a:ext cx="42832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nctuation rap is a game we pl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’s fun to do, and we can learn that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ke the period, the period; he’s not hard to underst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’ll find him at the end of a sentence or comm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marks abbreviations, shortens words that are lo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’t forget the period, he’s small but stro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stion mark, question mark, what did you sa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follows a question, that’s the only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w! Awesome! Rad! Hurray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xclamation point is next; he’s got something to s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follows something loud, he’s excited to pl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’t use him too much, he won’t be special that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mma is next, he is used a 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can separate a list of some groceries you bou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’ll find him in the middle of the year and the da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tween two adjectives, or a city and st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 can join two sentences with a “but” or an “an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st remember the comma, he will give you a h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 is one more place that our comma has be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comes after a clause that tells you wh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714920" y="685800"/>
            <a:ext cx="4167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ash-the dash-he’s here, then he’s g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you need to make a pause, then you bring him alo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otation marks are nosey.  They have no reserv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out hanging around in any conversa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 must put quotes around a thing that is sa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also a poem or a story you’ve re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lon likes to show a list that will com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s brother, the “semi” will not be out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emicolon joins two sentences with no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you have too many commas, he can take a stand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punctuation"/>
          <p:cNvPicPr/>
          <p:nvPr/>
        </p:nvPicPr>
        <p:blipFill>
          <a:blip r:embed="rId1"/>
          <a:stretch/>
        </p:blipFill>
        <p:spPr>
          <a:xfrm>
            <a:off x="5105520" y="3886200"/>
            <a:ext cx="2811240" cy="2514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3412800" y="4140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ation 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919160" y="304920"/>
            <a:ext cx="607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omic Sans MS"/>
              </a:rPr>
              <a:t>Mission Accomplished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50280" y="1219320"/>
            <a:ext cx="883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We ended those pesky senten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alien1"/>
          <p:cNvPicPr/>
          <p:nvPr/>
        </p:nvPicPr>
        <p:blipFill>
          <a:blip r:embed="rId1"/>
          <a:stretch/>
        </p:blipFill>
        <p:spPr>
          <a:xfrm>
            <a:off x="7010280" y="5025960"/>
            <a:ext cx="2133720" cy="1832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alien"/>
          <p:cNvPicPr/>
          <p:nvPr/>
        </p:nvPicPr>
        <p:blipFill>
          <a:blip r:embed="rId2"/>
          <a:stretch/>
        </p:blipFill>
        <p:spPr>
          <a:xfrm>
            <a:off x="380880" y="3551400"/>
            <a:ext cx="2248200" cy="1409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84240" y="5867280"/>
            <a:ext cx="67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empus Sans ITC"/>
              </a:rPr>
              <a:t>You did great, earthlings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Planets 1"/>
          <p:cNvPicPr/>
          <p:nvPr/>
        </p:nvPicPr>
        <p:blipFill>
          <a:blip r:embed="rId3"/>
          <a:stretch/>
        </p:blipFill>
        <p:spPr>
          <a:xfrm>
            <a:off x="2666880" y="2057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xclamation-dance"/>
          <p:cNvPicPr/>
          <p:nvPr/>
        </p:nvPicPr>
        <p:blipFill>
          <a:blip r:embed="rId1"/>
          <a:stretch/>
        </p:blipFill>
        <p:spPr>
          <a:xfrm>
            <a:off x="0" y="4191120"/>
            <a:ext cx="1295280" cy="2084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066680" y="464832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 exclamation mark shows excitement or fee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832040" y="6156360"/>
            <a:ext cx="43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That is a huge dog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question-dance"/>
          <p:cNvPicPr/>
          <p:nvPr/>
        </p:nvPicPr>
        <p:blipFill>
          <a:blip r:embed="rId2"/>
          <a:stretch/>
        </p:blipFill>
        <p:spPr>
          <a:xfrm>
            <a:off x="0" y="2590920"/>
            <a:ext cx="1600200" cy="1433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447920" y="2666880"/>
            <a:ext cx="716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question mark means something is being as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755000" y="4114800"/>
            <a:ext cx="537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re you going to lunch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9"/>
          <p:cNvSpPr/>
          <p:nvPr/>
        </p:nvSpPr>
        <p:spPr>
          <a:xfrm>
            <a:off x="228600" y="685800"/>
            <a:ext cx="914400" cy="914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447920" y="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period comes at the end of statements and comma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676520" y="1371600"/>
            <a:ext cx="419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t is raining today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2">
            <a:hlinkClick r:id="" action="ppaction://hlinkshowjump?jump=nextslide"/>
          </p:cNvPr>
          <p:cNvSpPr/>
          <p:nvPr/>
        </p:nvSpPr>
        <p:spPr>
          <a:xfrm>
            <a:off x="7620120" y="1600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5">
            <a:hlinkClick r:id="rId3" action="ppaction://hlinksldjump"/>
          </p:cNvPr>
          <p:cNvSpPr/>
          <p:nvPr/>
        </p:nvSpPr>
        <p:spPr>
          <a:xfrm>
            <a:off x="73152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1600200" y="20574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Do not interrupt me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523880" y="0"/>
            <a:ext cx="633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eriod is used for more than just an end ma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"/>
          <p:cNvSpPr/>
          <p:nvPr/>
        </p:nvSpPr>
        <p:spPr>
          <a:xfrm>
            <a:off x="380880" y="45720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8"/>
          <p:cNvSpPr/>
          <p:nvPr/>
        </p:nvSpPr>
        <p:spPr>
          <a:xfrm>
            <a:off x="304920" y="5715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1"/>
          <p:cNvSpPr/>
          <p:nvPr/>
        </p:nvSpPr>
        <p:spPr>
          <a:xfrm>
            <a:off x="8001000" y="5638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7620120" y="4572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1756800" y="1371600"/>
            <a:ext cx="63208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t is used in abbreviatio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90 College Rd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Roll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at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9560" y="1143000"/>
            <a:ext cx="62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here are we go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exclamation-dance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question-dan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81" name="Oval 7">
            <a:hlinkClick r:id="" action="ppaction://hlinkshowjump?jump=nextslide"/>
          </p:cNvPr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59000" y="4343400"/>
            <a:ext cx="30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3962520" y="441972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6707160" y="43434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alien1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light-ing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819520" y="4800600"/>
            <a:ext cx="299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9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question-dance"/>
          <p:cNvPicPr/>
          <p:nvPr/>
        </p:nvPicPr>
        <p:blipFill>
          <a:blip r:embed="rId1"/>
          <a:stretch/>
        </p:blipFill>
        <p:spPr>
          <a:xfrm>
            <a:off x="1828800" y="685800"/>
            <a:ext cx="1600200" cy="1954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83640" y="2971800"/>
            <a:ext cx="702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here are we go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219320" y="457200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is sentence is a question, so it gets a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question mark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543800" y="281952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546920" y="1143000"/>
            <a:ext cx="640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 phone is ring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exclamation-dance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question-dance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99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83040" y="4267080"/>
            <a:ext cx="30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733920" y="4384800"/>
            <a:ext cx="23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402600" y="449568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alien1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light-ing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048120" y="4648320"/>
            <a:ext cx="28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5:30:37Z</dcterms:created>
  <dc:creator>Jefferson County Schools </dc:creator>
  <dc:description/>
  <dc:language>en-US</dc:language>
  <cp:lastModifiedBy>Laura McDow</cp:lastModifiedBy>
  <dcterms:modified xsi:type="dcterms:W3CDTF">2010-09-09T22:40:32Z</dcterms:modified>
  <cp:revision>13</cp:revision>
  <dc:subject/>
  <dc:title>PowerPoint Presentation</dc:title>
</cp:coreProperties>
</file>